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200A-EEB9-44C7-9B2C-87E78E23B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260F-F699-47A7-98BB-D753C5764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5CF-52EF-4021-9882-33EFAD3B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D63-1BF5-402A-85F0-9311556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26E-9068-46E2-93D8-5B16F294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4C9-04E7-48AF-B03D-11F4386C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C38-1DD5-4C76-A854-4B7EF4B0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039-4C6D-4D73-ACCD-C4D75C7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AE2-9443-4BA0-8A81-A259410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801-E587-442F-B1D1-54BC218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A62-642D-414C-9936-713532E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F6B-B75C-4028-A278-CAF34C6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235-10E2-4471-9DD1-D613509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72A-BF7F-4073-AC6E-459C14B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6E9-0806-43EC-9C44-419EE9E71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пект  занятия в группе для детей с ЗПР тема: «День побе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7" descr="1368082553_ac21971dc243be1dbc92edad0e1f7441.jpg"/>
          <p:cNvPicPr/>
          <p:nvPr/>
        </p:nvPicPr>
        <p:blipFill>
          <a:blip r:embed="rId1"/>
          <a:stretch/>
        </p:blipFill>
        <p:spPr>
          <a:xfrm>
            <a:off x="1523880" y="195732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968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0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3T06:13:54Z</dcterms:created>
  <dc:creator>Нина</dc:creator>
  <dc:description/>
  <dc:language>en-US</dc:language>
  <cp:lastModifiedBy>User</cp:lastModifiedBy>
  <dcterms:modified xsi:type="dcterms:W3CDTF">2015-03-10T09:34:57Z</dcterms:modified>
  <cp:revision>22</cp:revision>
  <dc:subject/>
  <dc:title>Дидактическая игра</dc:title>
</cp:coreProperties>
</file>